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7.wmf" ContentType="image/x-wmf"/>
  <Override PartName="/ppt/media/image12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5.wmf" ContentType="image/x-wmf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  <p:sldId id="311" r:id="rId66"/>
    <p:sldId id="312" r:id="rId67"/>
    <p:sldId id="313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slide" Target="slides/slide56.xml"/><Relationship Id="rId67" Type="http://schemas.openxmlformats.org/officeDocument/2006/relationships/slide" Target="slides/slide57.xml"/><Relationship Id="rId68" Type="http://schemas.openxmlformats.org/officeDocument/2006/relationships/slide" Target="slides/slide58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2BA82-76CD-40F9-85E9-56ED88A31A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C8A68-93CB-48B1-954C-460BA3FD3BC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95BA05-D165-4D7A-991D-9DD45EF4DAA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161D86-A20C-4F85-99D5-189AB7C0967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a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DA433-1480-423C-A809-67CCC0C3DFF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037267-576A-466E-B093-8936BB5F3CE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899DFE-8C1C-4389-97A1-014EE35121F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89407-3CAE-4441-837F-272C4ECC955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99744-8312-40CA-A54D-3A1D6457106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5217E-4991-4109-8C4F-11DA8443F6C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685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313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594144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F20D1-C1FC-497B-81C9-6F2D731BB2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48041-3D30-475D-9A9B-209A688568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94A03-4EA1-4D03-8E7E-C3512408A0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9C590D-0BD4-44A1-953A-271DE57E577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7F2C35-822C-4C6E-8B8F-EF8EE153B10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8628ED-2EFF-418D-97F1-D959A97F397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C23202-FBD5-4C87-9D8D-DCF48C08D2F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1544C4-64DE-416D-BA3B-E5BA4ED1BCB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a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893775-4E8A-4E28-B756-52644B2DCDD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A6A63F-03C9-4312-BEA2-7738AAB09A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B0F32-48DB-44A1-A79D-32040EB492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C55266-F6D6-4CB6-8F97-ECDF835AB23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A0A04F-2781-40C3-B3CB-12CF1A915C4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851DE7-C193-4657-BDC8-CC89B2B292F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AD5819-F3E5-4EB2-8D49-6B99D3BD7BA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3FE50D-4F6F-4E8E-974A-65D824AAE17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3354F5-9BF7-408E-882C-5E1585F8C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810A8B-CD31-41A2-A46B-A4EF38DCD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57BA7D-59F0-47DF-AD30-1B4D898E9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DF0434-54CB-4325-A3E2-B3BB94AD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367F9F-A229-4287-8A0D-0D31CB44F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F26E7-64C6-4D53-889A-72D21E157C8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a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76EA8F-B360-42F2-904F-16B2AEB5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50B676-FED1-41BF-A42E-00632083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FE2FA5-B1D6-4AF1-B31D-16DB12EF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5D0581-88C8-4F66-A170-8C2DE365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093FFE-A120-45AA-8587-A1B34974F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FD5E08-DAD5-4E3F-8EF8-B6A324727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85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13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4144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50B745-FB77-4AA0-B156-867F8D389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A864F3-F8B0-4AE2-AFFF-A2D3CBC68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AF7807-99BD-42F3-83E4-0ACBF5006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057FF0-32F4-4261-A842-678F54B1E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B9162-3060-4BC9-B77C-40917BF9824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2600EC-6C27-4E22-B8A4-5BD9F318B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C70D6C-80E0-4957-A955-018EB2BED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a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D96972-F539-4474-9343-DEEFD3963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2FAE3F-6B27-41A1-8D65-8F746B88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71EA56-EAC6-47FB-B094-5BBEC71F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6F0E82-29A0-48FA-AC1A-ACB3E803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501E56-6460-473E-8BBD-3EA2899CC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F62925-87C6-41B2-9903-103DE4295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85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13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94144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7D2E1A-40A8-42D1-ADDA-50C120AE7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29C4F9-C478-4211-8CA9-1F4F5E7BD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48FC1-09CD-4E3A-B463-878606BB589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465687-1ACA-47B0-9B7A-BAEAB9AFE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50597E6-D0C3-4913-8BC0-798A51CC8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74B7F9-5EC7-40BC-BF19-DF8164B16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BB5B32-EDC3-4B95-B2F9-86544C5F3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a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BE1891-3BAB-4F0F-890A-55A836A1E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877683-F91A-40E1-B84D-F30A1F5A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42BC648-E1F9-44B1-A42B-0F34F7AF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B017A40-4AF6-4A81-8F52-CD30FBA7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5DED1B-E021-414D-91F9-0CB6B46E4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9A7772-8365-46F4-89B3-4F87FFB41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a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BD887-D1AB-4742-B0E5-FCB6BC26687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85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13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4144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81FE9B8-8DBF-4C51-93D5-1EC3768AA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8BB59-65A7-4588-84EE-8620441D719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1C622-A4B1-4680-BA16-2033F865654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CFFE8-B387-4ED2-B61D-1EE5F263B81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1AB34-3ABE-4527-9956-E289D1A83D0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139AC-0CB3-4BBC-BF12-2169ADA3D18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a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0404E-AF32-48CC-B5DF-F399AB6A957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D859F-5134-44FB-9962-605A6C7DFC5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8BB4A-8F78-4B1D-BBF2-D2ABE4A300C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FB3E3-07CD-4379-BA3B-831E4BD0EB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BBFE4-6BEF-460A-9BE7-605DB3FDC71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C7837-47D1-4A64-84E4-57675197F84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000B5-547C-457E-AAD3-9F787B4E37B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85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13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594144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62637-EF88-413B-960B-569C115DED9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091F56-9FB9-422B-A902-836BDB4AA9F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C40480-F77E-4FAB-BE5C-A6A1C882BBE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C59516-50B0-4F63-B30E-5B5C1562267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C1B553-D938-44BD-94B6-7D2AF185C1D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604060-EB11-4C0D-B887-F0E37F7FF4F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a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1A4DCC-D1E7-4004-A993-B2B0CA6EEEE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B6807D-CAD3-4A99-A110-8613B6B51E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65D57-4CC6-4B38-B27C-42BE040C336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CA1BB7-17D1-4532-9FA0-CBCA6979DD3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2A881B-4BCC-4858-A3CF-D1E96F1A3D0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63D4AB-3A96-47D7-9C69-66C0FF940E8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C12B66-2808-4935-97A5-0655C2F7697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85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13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94144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F5D0F0-64A1-44CE-8DD6-4A5DA3D723F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708FC-E728-4248-9806-0AAB27AC462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84521-080B-4C02-83C7-5B5F501A490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4FD9D-E70B-4EB2-8304-D2952B47320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81058-CCFB-4C3D-BFCE-47CF13F10AD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65CDA-2300-4CC8-BBC9-62D771D192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8870B-A277-4E78-8634-6FE8B136ED1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a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0DABE-5244-4CCF-8700-AAA4494465F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E7CF8-046E-4478-AC48-15135341F76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C649B-88F2-44A0-AF28-0273D0E8428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4B503-085E-4B4A-8C38-A05D28B2076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6A804B-BE81-48FE-B6A5-3F9A5B42C40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4978B-AEF5-4177-A6D6-E9B0AA1394A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685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313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594144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9375D-2FF0-45FC-9A58-D3AA3682953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182A3-1BA3-460D-8D97-6EF0837F2FD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D03E9-3E78-4CD3-992C-174417C2819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9ECF15-E025-4772-9846-4817F84697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221600" cy="4387680"/>
          </a:xfrm>
          <a:prstGeom prst="rect">
            <a:avLst/>
          </a:prstGeom>
          <a:blipFill rotWithShape="0">
            <a:blip r:embed="rId2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e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80520" indent="-380520"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75800" indent="-393120">
              <a:spcBef>
                <a:spcPts val="799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8360" indent="-321120"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080" indent="-313560">
              <a:spcBef>
                <a:spcPts val="799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8200" indent="-292320"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8200" indent="-29232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8200" indent="-29232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122880"/>
            <a:ext cx="9144000" cy="731880"/>
          </a:xfrm>
          <a:prstGeom prst="rect">
            <a:avLst/>
          </a:prstGeom>
          <a:solidFill>
            <a:srgbClr val="00afc8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94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094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8EDB6CC9-6D25-414A-A953-979C922B1B42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740120" y="6137280"/>
            <a:ext cx="440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5c4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Entrepreneurship: Ideas in 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618880" y="6444360"/>
            <a:ext cx="352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 Cengage Learning/South-Wes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315200" y="0"/>
            <a:ext cx="1828800" cy="6858000"/>
          </a:xfrm>
          <a:prstGeom prst="rect">
            <a:avLst/>
          </a:prstGeom>
          <a:gradFill rotWithShape="0">
            <a:gsLst>
              <a:gs pos="0">
                <a:srgbClr val="99ccff">
                  <a:alpha val="10196"/>
                </a:srgbClr>
              </a:gs>
              <a:gs pos="100000">
                <a:srgbClr val="ffffff">
                  <a:alpha val="7529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1371600" cy="137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>
                  <a:alpha val="68235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228600"/>
            <a:ext cx="365580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122880"/>
            <a:ext cx="9144000" cy="731880"/>
          </a:xfrm>
          <a:prstGeom prst="rect">
            <a:avLst/>
          </a:prstGeom>
          <a:solidFill>
            <a:srgbClr val="00afc8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ftr" idx="3"/>
          </p:nvPr>
        </p:nvSpPr>
        <p:spPr>
          <a:xfrm>
            <a:off x="685800" y="617220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Num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78BBB031-ED3E-438B-840B-BFDBC0A8D354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19720" y="617220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5c4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Entrepreneurship: Ideas in 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618880" y="6444360"/>
            <a:ext cx="352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 Cengage Learning/South-Wes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title"/>
          </p:nvPr>
        </p:nvSpPr>
        <p:spPr>
          <a:xfrm>
            <a:off x="1143000" y="137124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5280" y="304920"/>
            <a:ext cx="30178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pte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304920"/>
            <a:ext cx="533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f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af0000"/>
              </a:solidFill>
              <a:latin typeface="Arial"/>
            </a:endParaRPr>
          </a:p>
          <a:p>
            <a:pPr lvl="1" marL="39852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09640" algn="ctr">
              <a:spcBef>
                <a:spcPts val="601"/>
              </a:spcBef>
              <a:buClr>
                <a:srgbClr val="00afc8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6240" algn="ctr">
              <a:spcBef>
                <a:spcPts val="499"/>
              </a:spcBef>
              <a:buClr>
                <a:srgbClr val="f7ff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74920" algn="ctr">
              <a:spcBef>
                <a:spcPts val="4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7492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7492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93DE-9C3B-4287-9C9F-9CEF436904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BEB66-29EC-461A-BDC2-9954DB4FF6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26737-525A-4B8D-8D95-509DFB055E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7696080" y="0"/>
            <a:ext cx="1447920" cy="1523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7221600" cy="43876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6126120"/>
            <a:ext cx="9144000" cy="731880"/>
          </a:xfrm>
          <a:prstGeom prst="rect">
            <a:avLst/>
          </a:prstGeom>
          <a:solidFill>
            <a:srgbClr val="e00024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ftr" idx="14"/>
          </p:nvPr>
        </p:nvSpPr>
        <p:spPr>
          <a:xfrm>
            <a:off x="685800" y="61722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ldNum" idx="15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3B2A6C16-DABF-4FEA-8FEA-582DF9A0D955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165720" y="6137280"/>
            <a:ext cx="298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International 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98000" y="644436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Thomson/South-Wes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gt;&gt; C H E C K P O I N 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7696080" y="0"/>
            <a:ext cx="1447920" cy="1523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0"/>
            <a:ext cx="7221600" cy="43876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6126120"/>
            <a:ext cx="9144000" cy="731880"/>
          </a:xfrm>
          <a:prstGeom prst="rect">
            <a:avLst/>
          </a:prstGeom>
          <a:solidFill>
            <a:srgbClr val="e00024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ftr" idx="16"/>
          </p:nvPr>
        </p:nvSpPr>
        <p:spPr>
          <a:xfrm>
            <a:off x="685800" y="61722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ldNum" idx="17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9AC37AE3-AE56-41FF-AED3-834ECEE9968C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65720" y="6137280"/>
            <a:ext cx="298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International 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498000" y="644436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Thomson/South-Wes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gt;&gt; C H E C K P O I N 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1371600" cy="137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361a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6360" y="228600"/>
            <a:ext cx="365616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6122880"/>
            <a:ext cx="9144000" cy="731880"/>
          </a:xfrm>
          <a:prstGeom prst="rect">
            <a:avLst/>
          </a:prstGeom>
          <a:solidFill>
            <a:srgbClr val="e00024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Num" idx="18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A8E9A032-1AB0-4BF7-BCDD-370607BB5BE8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096240" y="6137280"/>
            <a:ext cx="305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International Mark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498000" y="644436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Thomson/South-Wes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0880" y="304920"/>
            <a:ext cx="344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Arial"/>
              </a:rPr>
              <a:t>DECA PR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6934320" y="228600"/>
            <a:ext cx="1761840" cy="17463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2"/>
          <p:cNvSpPr>
            <a:spLocks noGrp="1"/>
          </p:cNvSpPr>
          <p:nvPr>
            <p:ph type="ftr" idx="19"/>
          </p:nvPr>
        </p:nvSpPr>
        <p:spPr>
          <a:xfrm>
            <a:off x="685800" y="61722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0" y="0"/>
            <a:ext cx="1371600" cy="137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361a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06360" y="228600"/>
            <a:ext cx="365616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6122880"/>
            <a:ext cx="9144000" cy="731880"/>
          </a:xfrm>
          <a:prstGeom prst="rect">
            <a:avLst/>
          </a:prstGeom>
          <a:solidFill>
            <a:srgbClr val="e00024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73639380-4DD6-4668-9AFB-1EE1BBAA20FB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096240" y="6137280"/>
            <a:ext cx="305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International Mark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498000" y="644436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Thomson/South-Wes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0880" y="304920"/>
            <a:ext cx="344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Arial"/>
              </a:rPr>
              <a:t>DECA PR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3"/>
          <a:stretch/>
        </p:blipFill>
        <p:spPr>
          <a:xfrm>
            <a:off x="6934320" y="228600"/>
            <a:ext cx="1761840" cy="17463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3EB74E1E-BBC1-4F35-8965-0C332D59265E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85800" y="617220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43000" y="137124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lan and Track Your Finances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1142640" y="3047760"/>
            <a:ext cx="7620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03356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f0000"/>
                </a:solidFill>
                <a:latin typeface="Arial"/>
              </a:rPr>
              <a:t>9.1 Finance Your Business   </a:t>
            </a:r>
            <a:endParaRPr b="0" lang="en-US" sz="3200" spc="-1" strike="noStrike">
              <a:solidFill>
                <a:srgbClr val="af0000"/>
              </a:solidFill>
              <a:latin typeface="Arial"/>
            </a:endParaRPr>
          </a:p>
          <a:p>
            <a:pPr marL="103356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f0000"/>
                </a:solidFill>
                <a:latin typeface="Arial"/>
              </a:rPr>
              <a:t>9.2 Pro Forma Financial Statements   </a:t>
            </a:r>
            <a:endParaRPr b="0" lang="en-US" sz="3200" spc="-1" strike="noStrike">
              <a:solidFill>
                <a:srgbClr val="af0000"/>
              </a:solidFill>
              <a:latin typeface="Arial"/>
            </a:endParaRPr>
          </a:p>
          <a:p>
            <a:pPr marL="103356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f0000"/>
                </a:solidFill>
                <a:latin typeface="Arial"/>
              </a:rPr>
              <a:t>9.3 Record Keeping for Businesses </a:t>
            </a:r>
            <a:endParaRPr b="0" lang="en-US" sz="3200" spc="-1" strike="noStrike">
              <a:solidFill>
                <a:srgbClr val="af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879640" y="304920"/>
            <a:ext cx="549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ff00"/>
                </a:solidFill>
                <a:latin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e0000"/>
                </a:solidFill>
                <a:latin typeface="Arial"/>
              </a:rPr>
              <a:t>Equity Capital</a:t>
            </a: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lnSpc>
                <a:spcPct val="90000"/>
              </a:lnSpc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bt-to-equity rat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lation between the dollars you have borrowed and the dollars you have invested in your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igher percentage of your own money that you have invested, the easier it will be for you to get others to inv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95196-D841-451F-9E82-541AB5850C7E}" type="slidenum">
              <a:t>10</a:t>
            </a:fld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609120" y="1752120"/>
            <a:ext cx="81536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8200" indent="-409680"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ney invested in a business in return for a share in the profits of the busi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s of equity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Con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iends and Rel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nture Capita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spcBef>
                <a:spcPts val="601"/>
              </a:spcBef>
              <a:buClr>
                <a:srgbClr val="00afc8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s or companies that make a living investing in startup compa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96720" indent="-396720">
              <a:lnSpc>
                <a:spcPct val="100000"/>
              </a:lnSpc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quity capit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A190E-1EAE-4F0B-ACF2-B2C6BB590A60}" type="slidenum">
              <a:t>11</a:t>
            </a:fld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" descr=""/>
          <p:cNvPicPr/>
          <p:nvPr/>
        </p:nvPicPr>
        <p:blipFill>
          <a:blip r:embed="rId1"/>
          <a:srcRect l="12500" t="26042" r="75005" b="26042"/>
          <a:stretch/>
        </p:blipFill>
        <p:spPr>
          <a:xfrm>
            <a:off x="914400" y="838080"/>
            <a:ext cx="954000" cy="27432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rcRect l="30470" t="33337" r="21876" b="54171"/>
          <a:stretch/>
        </p:blipFill>
        <p:spPr>
          <a:xfrm>
            <a:off x="1981080" y="914400"/>
            <a:ext cx="4496040" cy="88416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362320" y="2057400"/>
            <a:ext cx="586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What are some of the ways entrepreneurs can get equity capit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1986E-0C2B-41F1-89ED-D685045CD252}" type="slidenum">
              <a:t>12</a:t>
            </a:fld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e0000"/>
                </a:solidFill>
                <a:latin typeface="Arial"/>
              </a:rPr>
              <a:t>Debt Capital</a:t>
            </a: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spcBef>
                <a:spcPts val="700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t ca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601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y loaned to a business with the understanding that the money will be rep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spcBef>
                <a:spcPts val="4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ually with inte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iends and Rel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601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how the loan will affect your relatio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601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e a formal agreement regarding repayment 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81B06-3FC8-4583-94D0-CD2C3B9CBF54}" type="slidenum">
              <a:t>13</a:t>
            </a:fld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e0000"/>
                </a:solidFill>
                <a:latin typeface="Arial"/>
              </a:rPr>
              <a:t>Commercial Bank Loans</a:t>
            </a: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ed lo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ns that are backed by collat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lat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erty that the borrower forfeits if he or she defaults on the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3F7B2-9D71-4A72-9C73-3EC57CBB72C7}" type="slidenum">
              <a:t>14</a:t>
            </a:fld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609120" y="2209680"/>
            <a:ext cx="815364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8200" indent="-409680"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 of cre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-term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unts receivable fina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ntory fina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62120" y="1143000"/>
            <a:ext cx="7848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64680" indent="-364680">
              <a:lnSpc>
                <a:spcPct val="100000"/>
              </a:lnSpc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secured loans include the follow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978C1-9D94-4976-95DD-E9A75E3B3F9A}" type="slidenum">
              <a:t>15</a:t>
            </a:fld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81532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8200" indent="-409680"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ns that are not guaranteed with collat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made to creditworthy cust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62120" y="1143000"/>
            <a:ext cx="7848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96720" indent="-396720">
              <a:lnSpc>
                <a:spcPct val="100000"/>
              </a:lnSpc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ecured lo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9EEDE-8D57-4AB9-A227-F07A2509F8C5}" type="slidenum">
              <a:t>16</a:t>
            </a:fld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685800" y="2286000"/>
            <a:ext cx="81532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8200" indent="-409680"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usiness is a start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ack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spcBef>
                <a:spcPts val="601"/>
              </a:spcBef>
              <a:buClr>
                <a:srgbClr val="00afc8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olid business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spcBef>
                <a:spcPts val="601"/>
              </a:spcBef>
              <a:buClr>
                <a:srgbClr val="00afc8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equate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spcBef>
                <a:spcPts val="601"/>
              </a:spcBef>
              <a:buClr>
                <a:srgbClr val="00afc8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dence in the borr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spcBef>
                <a:spcPts val="601"/>
              </a:spcBef>
              <a:buClr>
                <a:srgbClr val="00afc8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al 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62120" y="1143000"/>
            <a:ext cx="8001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64680" indent="-364680">
              <a:lnSpc>
                <a:spcPct val="100000"/>
              </a:lnSpc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ons a bank may not lend money inclu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773D7-A18B-4027-8CE1-8708C2096D79}" type="slidenum">
              <a:t>17</a:t>
            </a:fld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8200" indent="-409680">
              <a:lnSpc>
                <a:spcPct val="90000"/>
              </a:lnSpc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usiness Admin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usiness Investment Compan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ority Enterprise Small Business Investment Compan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artment of Housing and Urba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conomic Development Admin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Gover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and Municipal Gover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62120" y="1143000"/>
            <a:ext cx="8001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96720" indent="-396720">
              <a:lnSpc>
                <a:spcPct val="100000"/>
              </a:lnSpc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sources of loans inclu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5FE7D-67E2-4394-B7B2-EC2E82B79883}" type="slidenum">
              <a:t>18</a:t>
            </a:fld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" descr=""/>
          <p:cNvPicPr/>
          <p:nvPr/>
        </p:nvPicPr>
        <p:blipFill>
          <a:blip r:embed="rId1"/>
          <a:srcRect l="12500" t="26042" r="75005" b="26042"/>
          <a:stretch/>
        </p:blipFill>
        <p:spPr>
          <a:xfrm>
            <a:off x="914400" y="838080"/>
            <a:ext cx="954000" cy="274320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2"/>
          <a:srcRect l="30470" t="33337" r="21876" b="54171"/>
          <a:stretch/>
        </p:blipFill>
        <p:spPr>
          <a:xfrm>
            <a:off x="1981080" y="914400"/>
            <a:ext cx="4496040" cy="88416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2362320" y="2057400"/>
            <a:ext cx="58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Where can entrepreneurs look for debt financ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2AEA6-E2B5-4ABE-AF15-A1E8A7FAF771}" type="slidenum">
              <a:t>19</a:t>
            </a:fld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57a41"/>
                </a:solidFill>
                <a:latin typeface="Arial"/>
              </a:rPr>
              <a:t>Ideas in Action</a:t>
            </a: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lnSpc>
                <a:spcPct val="90000"/>
              </a:lnSpc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telin Shea addressed the unmet need in the marketplace for attractive, personalized covers for electronic equip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 advice to other entrepreneurs starting a   business i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 a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a g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 on a hob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80880" y="9907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lectronic Safekeeping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31CAD-D8F1-46AA-9B63-113D8353E745}" type="slidenum">
              <a:t>2</a:t>
            </a:fld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6964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4b"/>
                </a:solidFill>
                <a:latin typeface="Arial"/>
              </a:rPr>
              <a:t>Lesson 9.2</a:t>
            </a:r>
            <a:br>
              <a:rPr sz="2000"/>
            </a:br>
            <a:r>
              <a:rPr b="1" lang="en-US" sz="4000" spc="-1" strike="noStrike">
                <a:solidFill>
                  <a:srgbClr val="af0000"/>
                </a:solidFill>
                <a:latin typeface="Arial"/>
              </a:rPr>
              <a:t>Pro Forma Financial Statements</a:t>
            </a:r>
            <a:endParaRPr b="1" lang="en-US" sz="40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7a41"/>
                </a:solidFill>
                <a:latin typeface="Arial"/>
              </a:rPr>
              <a:t>Go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 a pro forma cash flow stat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 a pro forma income stat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 a pro forma balance sh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B6C9A-170F-4335-B934-DEB2122AE8A8}" type="slidenum">
              <a:t>20</a:t>
            </a:fld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57a41"/>
                </a:solidFill>
                <a:latin typeface="Arial"/>
              </a:rPr>
              <a:t>Terms</a:t>
            </a: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h flow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e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lance shee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84E48-5222-4F84-B3EE-650A9469BD56}" type="slidenum">
              <a:t>21</a:t>
            </a:fld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e0000"/>
                </a:solidFill>
                <a:latin typeface="Arial"/>
              </a:rPr>
              <a:t>Cash Flow Statement</a:t>
            </a: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sh flow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ccounting report that describes the way cash flows into and out of your business over a period of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D47F8-A9AE-449F-8E50-0A2E3F5980EA}" type="slidenum">
              <a:t>22</a:t>
            </a:fld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e0000"/>
                </a:solidFill>
                <a:latin typeface="Arial"/>
              </a:rPr>
              <a:t>Forecast Receipts and Disbursements</a:t>
            </a:r>
            <a:endParaRPr b="1" lang="en-US" sz="40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hly cash recei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hly cash disburs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A1B36-943B-4100-B627-0CDCBB387444}" type="slidenum">
              <a:t>23</a:t>
            </a:fld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" descr=""/>
          <p:cNvPicPr/>
          <p:nvPr/>
        </p:nvPicPr>
        <p:blipFill>
          <a:blip r:embed="rId1"/>
          <a:srcRect l="20315" t="33337" r="3127" b="11458"/>
          <a:stretch/>
        </p:blipFill>
        <p:spPr>
          <a:xfrm>
            <a:off x="914400" y="990720"/>
            <a:ext cx="7467480" cy="4038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7E867-540A-4487-9DC8-A647EE992DFC}" type="slidenum">
              <a:t>24</a:t>
            </a:fld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" descr=""/>
          <p:cNvPicPr/>
          <p:nvPr/>
        </p:nvPicPr>
        <p:blipFill>
          <a:blip r:embed="rId1"/>
          <a:srcRect l="42969" t="33337" r="14844" b="13540"/>
          <a:stretch/>
        </p:blipFill>
        <p:spPr>
          <a:xfrm>
            <a:off x="2438280" y="990720"/>
            <a:ext cx="4114800" cy="3886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AD7C4-98EE-495E-8523-1DCE2D5A275F}" type="slidenum">
              <a:t>25</a:t>
            </a:fld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e0000"/>
                </a:solidFill>
                <a:latin typeface="Arial"/>
              </a:rPr>
              <a:t>Prepare the Cash Flow Statement</a:t>
            </a:r>
            <a:endParaRPr b="1" lang="en-US" sz="40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 cash flow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h receip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sh disburs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king monthly cash flow statements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es you to anticipate periods of positive and negative cash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24FA5-EAC3-4104-BC1A-C203082B6A94}" type="slidenum">
              <a:t>26</a:t>
            </a:fld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" descr=""/>
          <p:cNvPicPr/>
          <p:nvPr/>
        </p:nvPicPr>
        <p:blipFill>
          <a:blip r:embed="rId1"/>
          <a:srcRect l="18749" t="25004" r="14844" b="15627"/>
          <a:stretch/>
        </p:blipFill>
        <p:spPr>
          <a:xfrm>
            <a:off x="1219320" y="762120"/>
            <a:ext cx="6476760" cy="4343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B3059-3957-4DC1-8992-F3DEB7E5CDBB}" type="slidenum">
              <a:t>27</a:t>
            </a:fld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e0000"/>
                </a:solidFill>
                <a:latin typeface="Arial"/>
              </a:rPr>
              <a:t>Economic Effects on Cash Flow</a:t>
            </a:r>
            <a:endParaRPr b="1" lang="en-US" sz="40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in the economy can dramatically effect the cash flow of busines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owners should make conservative estim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178EB-9874-4CD1-A03F-5FB47F870ACD}" type="slidenum">
              <a:t>28</a:t>
            </a:fld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" descr=""/>
          <p:cNvPicPr/>
          <p:nvPr/>
        </p:nvPicPr>
        <p:blipFill>
          <a:blip r:embed="rId1"/>
          <a:srcRect l="12500" t="26042" r="75005" b="26042"/>
          <a:stretch/>
        </p:blipFill>
        <p:spPr>
          <a:xfrm>
            <a:off x="914400" y="838080"/>
            <a:ext cx="954000" cy="274320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2"/>
          <a:srcRect l="30470" t="33337" r="21876" b="54171"/>
          <a:stretch/>
        </p:blipFill>
        <p:spPr>
          <a:xfrm>
            <a:off x="1981080" y="914400"/>
            <a:ext cx="4496040" cy="88416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2362320" y="2057400"/>
            <a:ext cx="58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What does a cash flow statement s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6CEE5-127E-4FF4-9C9F-D4E01276D2A2}" type="slidenum">
              <a:t>29</a:t>
            </a:fld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4b"/>
                </a:solidFill>
                <a:latin typeface="Arial"/>
              </a:rPr>
              <a:t>Lesson 9.1</a:t>
            </a:r>
            <a:br>
              <a:rPr sz="2000"/>
            </a:br>
            <a:r>
              <a:rPr b="1" lang="en-US" sz="4000" spc="-1" strike="noStrike">
                <a:solidFill>
                  <a:srgbClr val="af0000"/>
                </a:solidFill>
                <a:latin typeface="Arial"/>
              </a:rPr>
              <a:t>Finance Your Business</a:t>
            </a: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7a41"/>
                </a:solidFill>
                <a:latin typeface="Arial"/>
              </a:rPr>
              <a:t>Go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your startup costs and personal net wo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sources of equity capital for your busi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sources of debt capital for your busi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374FA-52C1-4D4C-AB1E-4928A0F3BE21}" type="slidenum">
              <a:t>3</a:t>
            </a:fld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e0000"/>
                </a:solidFill>
                <a:latin typeface="Arial"/>
              </a:rPr>
              <a:t>Income Statement</a:t>
            </a: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ome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s revenues and expenses incurred over a period of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s the profit or loss for the tim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1CE9F-3C1D-483F-879D-D70A0DE160FA}" type="slidenum">
              <a:t>30</a:t>
            </a:fld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e0000"/>
                </a:solidFill>
                <a:latin typeface="Arial"/>
              </a:rPr>
              <a:t>Prepare a Pro Forma Income Statement</a:t>
            </a:r>
            <a:endParaRPr b="1" lang="en-US" sz="40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ng-term growth of your business can be demonstrated by a pro forma income statement prepared for multiple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734E2-998B-43F7-8898-7DA41F15551D}" type="slidenum">
              <a:t>31</a:t>
            </a:fld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609480" y="22096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8200" indent="-409680"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of goods s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ss pro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expe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 income before t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 income/loss after t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6212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344880" indent="-344880">
              <a:lnSpc>
                <a:spcPct val="100000"/>
              </a:lnSpc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 forma income statement consists 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E2B78-5BE9-4AD7-99F2-99EF4247A9DC}" type="slidenum">
              <a:t>32</a:t>
            </a:fld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" descr=""/>
          <p:cNvPicPr/>
          <p:nvPr/>
        </p:nvPicPr>
        <p:blipFill>
          <a:blip r:embed="rId1"/>
          <a:srcRect l="11721" t="22917" r="39064" b="12502"/>
          <a:stretch/>
        </p:blipFill>
        <p:spPr>
          <a:xfrm>
            <a:off x="1676520" y="533520"/>
            <a:ext cx="4800600" cy="4724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B9FD0-3D5B-4932-A795-9303BC2E35E9}" type="slidenum">
              <a:t>33</a:t>
            </a:fld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1"/>
          <a:srcRect l="12500" t="26042" r="75005" b="26042"/>
          <a:stretch/>
        </p:blipFill>
        <p:spPr>
          <a:xfrm>
            <a:off x="914400" y="838080"/>
            <a:ext cx="954000" cy="274320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2"/>
          <a:srcRect l="30470" t="33337" r="21876" b="54171"/>
          <a:stretch/>
        </p:blipFill>
        <p:spPr>
          <a:xfrm>
            <a:off x="1981080" y="914400"/>
            <a:ext cx="4496040" cy="88416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2362320" y="2057400"/>
            <a:ext cx="58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What does an income statement s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86206-6D24-41F2-8E1D-DDCAAE93F73E}" type="slidenum">
              <a:t>34</a:t>
            </a:fld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e0000"/>
                </a:solidFill>
                <a:latin typeface="Arial"/>
              </a:rPr>
              <a:t>Balance Sheet</a:t>
            </a: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lance 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inancial statement that 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spcBef>
                <a:spcPts val="601"/>
              </a:spcBef>
              <a:buClr>
                <a:srgbClr val="00afc8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 business ow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spcBef>
                <a:spcPts val="601"/>
              </a:spcBef>
              <a:buClr>
                <a:srgbClr val="00afc8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 business ow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spcBef>
                <a:spcPts val="601"/>
              </a:spcBef>
              <a:buClr>
                <a:srgbClr val="00afc8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a business is worth at a point in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t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abiliti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wner’s equ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DA16E-64EB-41A8-B039-50543412960B}" type="slidenum">
              <a:t>35</a:t>
            </a:fld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e0000"/>
                </a:solidFill>
                <a:latin typeface="Arial"/>
              </a:rPr>
              <a:t>Prepare a Pro Forma Balance Sheet</a:t>
            </a:r>
            <a:endParaRPr b="1" lang="en-US" sz="40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lnSpc>
                <a:spcPct val="90000"/>
              </a:lnSpc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as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for many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as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ms that are used up in normal business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unts receiv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mounts owed to a business by its credit cust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FEEE9-0F54-48E2-A401-61E50250AAD4}" type="slidenum">
              <a:t>36</a:t>
            </a:fld>
          </a:p>
        </p:txBody>
      </p: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609480" y="16761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8200" indent="-409680"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bts that are payable over a year or lo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li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bts that must be paid in full in less than a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ounts owed to vendors for merchandise purchased on cred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09480" y="11430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96720" indent="-396720">
              <a:lnSpc>
                <a:spcPct val="100000"/>
              </a:lnSpc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-term liabiliti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8987F-FC86-4C37-AD83-7E3A5EE1F89A}" type="slidenum">
              <a:t>37</a:t>
            </a:fld>
          </a:p>
        </p:txBody>
      </p: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609480" y="16761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8200" indent="-409680"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mount a company estimates it will not receive from cust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rec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owering of an asset’s value to reflect its current wo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09480" y="11430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96720" indent="-396720">
              <a:lnSpc>
                <a:spcPct val="100000"/>
              </a:lnSpc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ance for uncollectible accou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22A8B-4EC2-4270-8B63-C045C4A99A6D}" type="slidenum">
              <a:t>38</a:t>
            </a:fld>
          </a:p>
        </p:txBody>
      </p: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" descr=""/>
          <p:cNvPicPr/>
          <p:nvPr/>
        </p:nvPicPr>
        <p:blipFill>
          <a:blip r:embed="rId1"/>
          <a:srcRect l="17970" t="22917" r="17970" b="13540"/>
          <a:stretch/>
        </p:blipFill>
        <p:spPr>
          <a:xfrm>
            <a:off x="1447920" y="685800"/>
            <a:ext cx="6248160" cy="4648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0A6A2-771D-4B2E-9898-49ADF6A42136}" type="slidenum">
              <a:t>39</a:t>
            </a:fld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57a41"/>
                </a:solidFill>
                <a:latin typeface="Arial"/>
              </a:rPr>
              <a:t>Terms</a:t>
            </a: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 wo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t-to-equity rat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ty ca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nture capita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t ca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ater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98341-F360-454B-BE0E-BC4B0F2C313A}" type="slidenum">
              <a:t>4</a:t>
            </a:fld>
          </a:p>
        </p:txBody>
      </p: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" descr=""/>
          <p:cNvPicPr/>
          <p:nvPr/>
        </p:nvPicPr>
        <p:blipFill>
          <a:blip r:embed="rId1"/>
          <a:srcRect l="12500" t="26042" r="75005" b="26042"/>
          <a:stretch/>
        </p:blipFill>
        <p:spPr>
          <a:xfrm>
            <a:off x="914400" y="838080"/>
            <a:ext cx="954000" cy="274320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2"/>
          <a:srcRect l="30470" t="33337" r="21876" b="54171"/>
          <a:stretch/>
        </p:blipFill>
        <p:spPr>
          <a:xfrm>
            <a:off x="1981080" y="914400"/>
            <a:ext cx="4496040" cy="88416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2362320" y="2057400"/>
            <a:ext cx="586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Name one example each of a current liability, a long-term liability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a current asset, and a fixed ass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BABCA-6F3F-41ED-91B0-866AA98AD0AA}" type="slidenum">
              <a:t>40</a:t>
            </a:fld>
          </a:p>
        </p:txBody>
      </p: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7620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4b"/>
                </a:solidFill>
                <a:latin typeface="Arial"/>
              </a:rPr>
              <a:t>Lesson 9.3</a:t>
            </a:r>
            <a:br>
              <a:rPr sz="2000"/>
            </a:br>
            <a:r>
              <a:rPr b="1" lang="en-US" sz="4000" spc="-1" strike="noStrike">
                <a:solidFill>
                  <a:srgbClr val="af0000"/>
                </a:solidFill>
                <a:latin typeface="Arial"/>
              </a:rPr>
              <a:t>Record Keeping for Businesses  </a:t>
            </a: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7a41"/>
                </a:solidFill>
                <a:latin typeface="Arial"/>
              </a:rPr>
              <a:t>Go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the use of journals and ledgers in a recordkeeping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the importance of keeping accurate and up-to-date bank, payroll, and tax record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A0B0A-CD04-4D3D-900F-EA2208180B88}" type="slidenum">
              <a:t>41</a:t>
            </a:fld>
          </a:p>
        </p:txBody>
      </p:sp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57a41"/>
                </a:solidFill>
                <a:latin typeface="Arial"/>
              </a:rPr>
              <a:t>Terms</a:t>
            </a: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ur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reg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ro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95DE9-4828-476E-8AD1-3FB73D918DAA}" type="slidenum">
              <a:t>42</a:t>
            </a:fld>
          </a:p>
        </p:txBody>
      </p:sp>
    </p:spTree>
  </p:cSld>
  <p:transition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e0000"/>
                </a:solidFill>
                <a:latin typeface="Arial"/>
              </a:rPr>
              <a:t>Recording Transactions</a:t>
            </a: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601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business activity that changes assets, liabilities or net wo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ur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601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unting records of the transactions you make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lnSpc>
                <a:spcPct val="90000"/>
              </a:lnSpc>
              <a:spcBef>
                <a:spcPts val="4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lnSpc>
                <a:spcPct val="90000"/>
              </a:lnSpc>
              <a:spcBef>
                <a:spcPts val="4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h pa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lnSpc>
                <a:spcPct val="90000"/>
              </a:lnSpc>
              <a:spcBef>
                <a:spcPts val="4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h recei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lnSpc>
                <a:spcPct val="90000"/>
              </a:lnSpc>
              <a:spcBef>
                <a:spcPts val="4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ch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lnSpc>
                <a:spcPct val="90000"/>
              </a:lnSpc>
              <a:spcBef>
                <a:spcPts val="4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8D903-21BE-4A12-860D-963EE0ABE378}" type="slidenum">
              <a:t>43</a:t>
            </a:fld>
          </a:p>
        </p:txBody>
      </p:sp>
    </p:spTree>
  </p:cSld>
  <p:transition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8200" indent="-409680"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eneral ledger is made up of accou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ccounting record that provides financial detail for a particular business i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09480" y="11430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96720" indent="-396720">
              <a:lnSpc>
                <a:spcPct val="100000"/>
              </a:lnSpc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dg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94E7A-ED8E-47FD-89FE-7CFBFFF92B7B}" type="slidenum">
              <a:t>44</a:t>
            </a:fld>
          </a:p>
        </p:txBody>
      </p:sp>
    </p:spTree>
  </p:cSld>
  <p:transition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/>
          </p:nvPr>
        </p:nvSpPr>
        <p:spPr>
          <a:xfrm>
            <a:off x="609480" y="16761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8200" indent="-409680">
              <a:lnSpc>
                <a:spcPct val="90000"/>
              </a:lnSpc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for accounts payable to show in detail the transactions with each vendor from whom merchandise is purchased on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ing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cord keeping tool for tracking accounts receiv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s how long it takes customers to pay their b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09480" y="11430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96720" indent="-396720">
              <a:lnSpc>
                <a:spcPct val="100000"/>
              </a:lnSpc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idiary led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62B64-41DF-4E8C-870C-986631932623}" type="slidenum">
              <a:t>45</a:t>
            </a:fld>
          </a:p>
        </p:txBody>
      </p:sp>
    </p:spTree>
  </p:cSld>
  <p:transition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414360" y="1600200"/>
            <a:ext cx="8313840" cy="228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BA61C-59FE-4E39-80EE-06906A7DC0B0}" type="slidenum">
              <a:t>46</a:t>
            </a:fld>
          </a:p>
        </p:txBody>
      </p:sp>
    </p:spTree>
  </p:cSld>
  <p:transition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" descr=""/>
          <p:cNvPicPr/>
          <p:nvPr/>
        </p:nvPicPr>
        <p:blipFill>
          <a:blip r:embed="rId1"/>
          <a:srcRect l="12500" t="26042" r="75005" b="26042"/>
          <a:stretch/>
        </p:blipFill>
        <p:spPr>
          <a:xfrm>
            <a:off x="914400" y="838080"/>
            <a:ext cx="954000" cy="274320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2"/>
          <a:srcRect l="30470" t="33337" r="21876" b="54171"/>
          <a:stretch/>
        </p:blipFill>
        <p:spPr>
          <a:xfrm>
            <a:off x="1981080" y="914400"/>
            <a:ext cx="4496040" cy="88416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2362320" y="2057400"/>
            <a:ext cx="58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What is the difference between a journal and a ledg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C91B4-3DB5-4E7C-9C8F-33B917439012}" type="slidenum">
              <a:t>47</a:t>
            </a:fld>
          </a:p>
        </p:txBody>
      </p:sp>
    </p:spTree>
  </p:cSld>
  <p:transition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e0000"/>
                </a:solidFill>
                <a:latin typeface="Arial"/>
              </a:rPr>
              <a:t>Business Records</a:t>
            </a: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lnSpc>
                <a:spcPct val="90000"/>
              </a:lnSpc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usiness checking account should be establish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eck reg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klet (or electronic register) where you record information for each check wri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lnSpc>
                <a:spcPct val="90000"/>
              </a:lnSpc>
              <a:spcBef>
                <a:spcPts val="601"/>
              </a:spcBef>
              <a:buClr>
                <a:srgbClr val="00afc8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lnSpc>
                <a:spcPct val="90000"/>
              </a:lnSpc>
              <a:spcBef>
                <a:spcPts val="601"/>
              </a:spcBef>
              <a:buClr>
                <a:srgbClr val="00afc8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lnSpc>
                <a:spcPct val="90000"/>
              </a:lnSpc>
              <a:spcBef>
                <a:spcPts val="601"/>
              </a:spcBef>
              <a:buClr>
                <a:srgbClr val="00afc8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of person or business receiving your pa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CFC38-8D0B-4D08-BEBC-5E81122B14CF}" type="slidenum">
              <a:t>48</a:t>
            </a:fld>
          </a:p>
        </p:txBody>
      </p:sp>
    </p:spTree>
  </p:cSld>
  <p:transition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09480" y="1828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8200" indent="-409680"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should balance your account each time a transaction occu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ncile Your Ac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month you should reconcile your bank statement with your check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09480" y="11430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96720" indent="-396720">
              <a:lnSpc>
                <a:spcPct val="100000"/>
              </a:lnSpc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lance Your Accou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1CBFE-4650-420E-9957-76B5399E815E}" type="slidenum">
              <a:t>49</a:t>
            </a:fld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e0000"/>
                </a:solidFill>
                <a:latin typeface="Arial"/>
              </a:rPr>
              <a:t>Assess Your Financial Needs</a:t>
            </a:r>
            <a:endParaRPr b="1" lang="en-US" sz="40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emize startup cost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the amount of capital required to start your busi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CD7E2-4D6F-4EE8-AFB1-AA3AC78126D6}" type="slidenum">
              <a:t>5</a:t>
            </a:fld>
          </a:p>
        </p:txBody>
      </p:sp>
    </p:spTree>
  </p:cSld>
  <p:transition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" descr=""/>
          <p:cNvPicPr/>
          <p:nvPr/>
        </p:nvPicPr>
        <p:blipFill>
          <a:blip r:embed="rId1"/>
          <a:srcRect l="7811" t="33337" r="10938" b="19791"/>
          <a:stretch/>
        </p:blipFill>
        <p:spPr>
          <a:xfrm>
            <a:off x="609480" y="1066680"/>
            <a:ext cx="7925040" cy="342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C92DC-CAC2-45DC-9D8D-36250C2979F1}" type="slidenum">
              <a:t>50</a:t>
            </a:fld>
          </a:p>
        </p:txBody>
      </p:sp>
    </p:spTree>
  </p:cSld>
  <p:transition>
    <p:wipe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09480" y="16761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8200" indent="-409680"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yro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spcBef>
                <a:spcPts val="601"/>
              </a:spcBef>
              <a:buClr>
                <a:srgbClr val="00afc8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ist of people who receive salary or wage payments from a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09480" y="11430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96720" indent="-396720">
              <a:lnSpc>
                <a:spcPct val="100000"/>
              </a:lnSpc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roll Rec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184EB-502E-4D38-89F3-3640726C4BA7}" type="slidenum">
              <a:t>51</a:t>
            </a:fld>
          </a:p>
        </p:txBody>
      </p:sp>
    </p:spTree>
  </p:cSld>
  <p:transition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8200" indent="-409680">
              <a:lnSpc>
                <a:spcPct val="90000"/>
              </a:lnSpc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es that earn a profit must pay income ta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lnSpc>
                <a:spcPct val="90000"/>
              </a:lnSpc>
              <a:spcBef>
                <a:spcPts val="601"/>
              </a:spcBef>
              <a:buClr>
                <a:srgbClr val="00afc8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rte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roll Taxes and Ded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uct taxes from employees pay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lnSpc>
                <a:spcPct val="90000"/>
              </a:lnSpc>
              <a:spcBef>
                <a:spcPts val="601"/>
              </a:spcBef>
              <a:buClr>
                <a:srgbClr val="00afc8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mit taxes to the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mployment insurance t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Security t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ary ded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0948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96720" indent="-396720">
              <a:lnSpc>
                <a:spcPct val="100000"/>
              </a:lnSpc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e T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5B6D7-9EB1-436B-98B3-36251A9A4AEA}" type="slidenum">
              <a:t>52</a:t>
            </a:fld>
          </a:p>
        </p:txBody>
      </p:sp>
    </p:spTree>
  </p:cSld>
  <p:transition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8200" indent="-409680"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es taxes are based on a percentage of s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700"/>
              </a:spcBef>
              <a:buClr>
                <a:srgbClr val="f7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month you deposit sales tax into a government owned acc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09480" y="11430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96720" indent="-396720">
              <a:lnSpc>
                <a:spcPct val="100000"/>
              </a:lnSpc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es T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B83D7-5106-48CE-9644-702658D740F3}" type="slidenum">
              <a:t>53</a:t>
            </a:fld>
          </a:p>
        </p:txBody>
      </p:sp>
    </p:spTree>
  </p:cSld>
  <p:transition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" descr=""/>
          <p:cNvPicPr/>
          <p:nvPr/>
        </p:nvPicPr>
        <p:blipFill>
          <a:blip r:embed="rId1"/>
          <a:srcRect l="12500" t="26042" r="75005" b="26042"/>
          <a:stretch/>
        </p:blipFill>
        <p:spPr>
          <a:xfrm>
            <a:off x="914400" y="838080"/>
            <a:ext cx="954000" cy="274320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2"/>
          <a:srcRect l="30470" t="33337" r="21876" b="54171"/>
          <a:stretch/>
        </p:blipFill>
        <p:spPr>
          <a:xfrm>
            <a:off x="1981080" y="914400"/>
            <a:ext cx="4496040" cy="88416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/>
          <p:nvPr/>
        </p:nvSpPr>
        <p:spPr>
          <a:xfrm>
            <a:off x="2362320" y="2057400"/>
            <a:ext cx="58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What kinds of bank, payroll, and tax records do you have to kee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1E6FA-D9FA-43D2-B125-B99E02C32312}" type="slidenum">
              <a:t>54</a:t>
            </a:fld>
          </a:p>
        </p:txBody>
      </p:sp>
    </p:spTree>
  </p:cSld>
  <p:transition>
    <p:wipe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286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57a41"/>
                </a:solidFill>
                <a:latin typeface="Arial"/>
              </a:rPr>
              <a:t>PERFORMANCE INDICATORS EVALUATED</a:t>
            </a:r>
            <a:endParaRPr b="1" lang="en-US" sz="36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228240" y="2742840"/>
            <a:ext cx="85345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spcBef>
                <a:spcPts val="700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the opportunity for business expan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convincing rationale for expanding a business into two surrounding commun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a complete financial plan for a business ven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6553080" y="304920"/>
            <a:ext cx="2438640" cy="112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7C39B-6C44-423D-8117-D41481238207}" type="slidenum">
              <a:t>55</a:t>
            </a:fld>
          </a:p>
        </p:txBody>
      </p:sp>
    </p:spTree>
  </p:cSld>
  <p:transition>
    <p:wipe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/>
          </p:nvPr>
        </p:nvSpPr>
        <p:spPr>
          <a:xfrm>
            <a:off x="380520" y="2742840"/>
            <a:ext cx="8458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spcBef>
                <a:spcPts val="700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financial information to obtain a loan from a financial instit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a financial proposal for a growing busines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 time and information for an effective presen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80880" y="1752480"/>
            <a:ext cx="85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96720" indent="-396720">
              <a:lnSpc>
                <a:spcPct val="100000"/>
              </a:lnSpc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est a business loan from a financial institution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1"/>
          <a:stretch/>
        </p:blipFill>
        <p:spPr>
          <a:xfrm>
            <a:off x="6553080" y="304920"/>
            <a:ext cx="2438640" cy="1125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FA4C5-902D-4FEB-A440-74F76F8301BB}" type="slidenum">
              <a:t>56</a:t>
            </a:fld>
          </a:p>
        </p:txBody>
      </p:sp>
    </p:spTree>
  </p:cSld>
  <p:transition>
    <p:wipe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57a41"/>
                </a:solidFill>
                <a:latin typeface="Arial"/>
              </a:rPr>
              <a:t>THINK CRITICALLY</a:t>
            </a:r>
            <a:endParaRPr b="1" lang="en-US" sz="44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es a financial institution want to know the future sales potential of the business’s target mark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a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a business’s workforce have to do with a business loa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6553080" y="304920"/>
            <a:ext cx="2438640" cy="112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27578-E75D-4F05-BBBA-768257F3CA6E}" type="slidenum">
              <a:t>57</a:t>
            </a:fld>
          </a:p>
        </p:txBody>
      </p:sp>
    </p:spTree>
  </p:cSld>
  <p:transition>
    <p:wipe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80520" y="28954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f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must the team describe the target market demographics for the two new proposed locations for the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80880" y="1828800"/>
            <a:ext cx="85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60240" indent="-660240">
              <a:lnSpc>
                <a:spcPct val="100000"/>
              </a:lnSpc>
              <a:spcBef>
                <a:spcPts val="799"/>
              </a:spcBef>
              <a:buClr>
                <a:srgbClr val="af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should the business project how quickly a loan will be repaid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6553080" y="304920"/>
            <a:ext cx="2438640" cy="1125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DBDAB-CFC4-4955-BADA-1518ED6B6EBC}" type="slidenum">
              <a:t>58</a:t>
            </a:fld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" descr=""/>
          <p:cNvPicPr/>
          <p:nvPr/>
        </p:nvPicPr>
        <p:blipFill>
          <a:blip r:embed="rId1"/>
          <a:srcRect l="53907" t="22917" r="11721" b="11458"/>
          <a:stretch/>
        </p:blipFill>
        <p:spPr>
          <a:xfrm>
            <a:off x="2658960" y="457200"/>
            <a:ext cx="3780000" cy="5410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3F6DA-B87B-478B-97BD-81D609BBF532}" type="slidenum">
              <a:t>6</a:t>
            </a:fld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e0000"/>
                </a:solidFill>
                <a:latin typeface="Arial"/>
              </a:rPr>
              <a:t>Personal Financial Statement</a:t>
            </a:r>
            <a:endParaRPr b="1" lang="en-US" sz="4000" spc="-1" strike="noStrike">
              <a:solidFill>
                <a:srgbClr val="ae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t wor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─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af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 financial statement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 ass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─ personal li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7E4F9-27FA-4623-8BE7-B8DD428B399F}" type="slidenum">
              <a:t>7</a:t>
            </a:fld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" descr=""/>
          <p:cNvPicPr/>
          <p:nvPr/>
        </p:nvPicPr>
        <p:blipFill>
          <a:blip r:embed="rId1"/>
          <a:srcRect l="17970" t="26042" r="7032" b="12502"/>
          <a:stretch/>
        </p:blipFill>
        <p:spPr>
          <a:xfrm>
            <a:off x="990720" y="838080"/>
            <a:ext cx="7315200" cy="449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CA681-A970-4619-9EBE-81B4D63610A8}" type="slidenum">
              <a:t>8</a:t>
            </a:fld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" descr=""/>
          <p:cNvPicPr/>
          <p:nvPr/>
        </p:nvPicPr>
        <p:blipFill>
          <a:blip r:embed="rId1"/>
          <a:srcRect l="12500" t="26042" r="75005" b="26042"/>
          <a:stretch/>
        </p:blipFill>
        <p:spPr>
          <a:xfrm>
            <a:off x="914400" y="838080"/>
            <a:ext cx="954000" cy="274320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2"/>
          <a:srcRect l="30470" t="33337" r="21876" b="54171"/>
          <a:stretch/>
        </p:blipFill>
        <p:spPr>
          <a:xfrm>
            <a:off x="1981080" y="914400"/>
            <a:ext cx="4496040" cy="88416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2362320" y="2057400"/>
            <a:ext cx="586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Why is the net worth of an entrepreneur important to potential investors in the busines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A03AE-C9F1-4454-A7D7-E84C7E592238}" type="slidenum">
              <a:t>9</a:t>
            </a:fld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01:31:49Z</dcterms:created>
  <dc:creator> </dc:creator>
  <dc:description/>
  <dc:language>en-US</dc:language>
  <cp:lastModifiedBy>Marce Epstein</cp:lastModifiedBy>
  <dcterms:modified xsi:type="dcterms:W3CDTF">2007-12-24T21:00:34Z</dcterms:modified>
  <cp:revision>811</cp:revision>
  <dc:subject/>
  <dc:title>Chapter 5</dc:title>
</cp:coreProperties>
</file>